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B3D-65E1-4476-9A32-DEDF6FC2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D1E-4715-473C-ABE8-AADF4B6A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396-8C71-4A8B-96AB-BC2AA4B6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D90-4A06-4A6F-928A-90391F3C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26DD-C1BE-4557-A9F6-A4E494DB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27F8-596D-4FD6-832B-6CE58C42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585E-08B2-466E-B097-081D002D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26AE-A838-4318-9694-F8940326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2466-A978-43CD-AA67-C07092F5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F07C-928F-451C-88D6-B9A95652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2276-013D-4B4C-9122-1C9E1864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0FB-DBFD-43CB-95F9-90E33A8B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6D19-7A0F-4751-8F8D-98C85BC3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69D9-A8BE-4353-88F5-31F1F0C3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DE94-120F-4A77-A133-0FAC3359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8D49-2FFB-46DC-A0E5-A920773E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AD7B-FF33-4CDF-9683-61DC890B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94B4B-C983-46BE-BF2A-39996FF9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BCFB7-44CF-4090-B8D9-2F349CFC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FB17-FE61-496D-A23E-DB253BB1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29556-9290-4A7E-BD16-0BA13B87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14D43-49E9-474B-97C6-EAB26B79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89C-815C-4388-8187-F9851643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A882C-4C00-43E5-BD9E-B75ACB86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4F7B2-0361-4296-A311-66A73778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8D177-5B8B-41E8-9BDC-26AA0B07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757A-1E15-4C5D-AB0D-3ECE350B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9D037-55AD-4F36-984D-AE1A4555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5DE12-293E-46EC-A7DC-7E06E02A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96D20-605A-400A-898F-CF14808E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515C6-9D93-471C-AFCE-B7B1E629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62EB1-3C4C-4374-9924-1A82CF0E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2D632-38DD-4EFF-B956-E316C309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9E4-689F-4879-A936-B5CAD2E2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1ECA1-E3D5-4BE4-B4E6-0731A8F7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E2BA1-4838-4E1E-84D5-C7717A82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78B9E-4CC2-47F4-97E3-90DF55ED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04D08-49E7-4789-91FF-5DEB8071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1B1F3-0F5B-44EB-B941-E3313B7D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3D351-A7BC-48E8-9862-69252AA1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BBC13-3E35-44F4-8A5F-5E3F8A5B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2CF9F-BDEA-43D0-B587-BE47F9C1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91E94-8DA4-4A37-92AF-35BA2EA3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31C-ACF2-4176-A3FB-24D53B20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9CC-A123-44AA-8C35-F6AA34C7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A45-74F5-45FC-96E8-7AEFD639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61D-3227-4B98-AA4B-FFA42659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FBD-BA2D-4281-88EC-C745C3D5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B484-FB9D-442F-B4D1-FBB871469B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B99E-B6D6-4F64-B723-F24B61EBD3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532A-AD8E-4320-8E86-B86798590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0A06-6255-4B64-A230-930000474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ootmouse.com/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hyperlink" Target="http://atestore.enablemart.com/products_detail.asp?id=154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bilityhub.com/" TargetMode="External"/><Relationship Id="rId3" Type="http://schemas.openxmlformats.org/officeDocument/2006/relationships/hyperlink" Target="http://www.readplease.com/" TargetMode="External"/><Relationship Id="rId4" Type="http://schemas.openxmlformats.org/officeDocument/2006/relationships/hyperlink" Target="http://www.synapseadaptive.com/aisquared/zoomtext_9/zoomtext_9_magnifier_reader.htm" TargetMode="External"/><Relationship Id="rId5" Type="http://schemas.openxmlformats.org/officeDocument/2006/relationships/hyperlink" Target="http://www.iglou.com/vrsky/" TargetMode="External"/><Relationship Id="rId6" Type="http://schemas.openxmlformats.org/officeDocument/2006/relationships/hyperlink" Target="http://www.e-speaking.com/" TargetMode="External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11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828800" y="1143000"/>
            <a:ext cx="67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alking Devices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raille transl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Complete Vision Los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057400" y="312372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imited hearing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lete Hearing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438280" y="11426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Hearing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1542960" cy="2342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M Classroom Audio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Hearing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4043520" cy="2903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osed Ca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Hearing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4267080" cy="3405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248520" y="4419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057400" y="312372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ny types of mobility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alking, dexterity, par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438280" y="11426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2266920" cy="220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yboard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5324400" cy="372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ot-controlled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6" name="" descr="no hands mouse control of the mouse and cursor using a fee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2819520"/>
            <a:ext cx="3962520" cy="2776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el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43480" y="2095560"/>
            <a:ext cx="3027240" cy="392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eech command of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-speak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3429000" cy="3619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980720" y="2057400"/>
            <a:ext cx="3886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ye-driven keyboarding (Eye-ga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p and Puf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5" name="" descr="Image:Sip-and-puff device.jpg"/>
          <p:cNvPicPr/>
          <p:nvPr/>
        </p:nvPicPr>
        <p:blipFill>
          <a:blip r:embed="rId2"/>
          <a:stretch/>
        </p:blipFill>
        <p:spPr>
          <a:xfrm>
            <a:off x="6324480" y="3429000"/>
            <a:ext cx="2086200" cy="2781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EyeTech Digital Systems, control computer cursor with eye movemen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1295280"/>
            <a:ext cx="2295720" cy="2343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ive &amp; Assistiv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ual Impair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earing Impair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ch Impair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bility Impair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and Learning Disabilities: Leveling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RT Boards -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ing Ahea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Lesson / Technology Plann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Group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 our on-line identities relevant to who we are off-line? Is on-line even a REAL plac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Universal Desig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828800" y="1752480"/>
            <a:ext cx="677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esign of products that helps all, including people with dis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arrier-free”               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xample: Curb-cuts                        in sidewalks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versal Design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381040" cy="17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elps people with di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eral benefits for 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e01318"/>
                </a:solidFill>
                <a:latin typeface="Arial"/>
              </a:rPr>
              <a:t>Examples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Text-to-speech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Computer monitor with touch 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Closed ca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Wheel 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versal Design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14600" y="2437920"/>
            <a:ext cx="6168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referable to adaptive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versal Design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Technology &amp; Learning Disabiliti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Leveling the Field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ny technologies allow effective interventions for 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Technology and LD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52680" y="3352680"/>
            <a:ext cx="3943440" cy="296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828800" y="2057400"/>
            <a:ext cx="677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t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 – to – speech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ermits user to “listen” to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sists with reading / understand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e01318"/>
                </a:solidFill>
                <a:latin typeface="Arial"/>
              </a:rPr>
              <a:t>Read Pleas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e01318"/>
                </a:solidFill>
                <a:latin typeface="Arial"/>
              </a:rPr>
              <a:t>Word Processors – e.g. MS Wor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Dyslexia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828800" y="2057040"/>
            <a:ext cx="6778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eech recogni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peech – to – text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llows user to speak answers or information that is translated to written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Dragon Naturally Sp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Dysgraphia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828800" y="2057400"/>
            <a:ext cx="677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chnology allows ALL students to have similar quality of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 students can have equal access to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nefits self-esteem and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A Level Playing Field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828800" y="1295280"/>
            <a:ext cx="6778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ility Hub – Links a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bilityhub.com/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ad Plea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text to speech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Zoom Tex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magnifies scree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ragon Naturally Speak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speech to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-speak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voice comma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Resource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76720" y="609120"/>
            <a:ext cx="54100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Adaptive &amp; Assistive Technologie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8" name="" descr="students using computers"/>
          <p:cNvPicPr/>
          <p:nvPr/>
        </p:nvPicPr>
        <p:blipFill>
          <a:blip r:embed="rId2"/>
          <a:stretch/>
        </p:blipFill>
        <p:spPr>
          <a:xfrm>
            <a:off x="2514600" y="2971800"/>
            <a:ext cx="4952880" cy="3494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2209320" y="1371600"/>
            <a:ext cx="62485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Interactive Whiteboards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3733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318"/>
                </a:solidFill>
                <a:latin typeface="Arial"/>
              </a:rPr>
              <a:t>SMART Bo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318"/>
                </a:solidFill>
                <a:latin typeface="Arial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318"/>
                </a:solidFill>
                <a:latin typeface="Arial"/>
              </a:rPr>
              <a:t>Similar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438280" y="3276720"/>
            <a:ext cx="2551320" cy="2577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52480" y="1904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re our on-line ident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levant to who w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re off-lin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on-line even a REAL pla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828440" y="1904760"/>
            <a:ext cx="70102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B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ponse Paper due 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04760" y="1447560"/>
            <a:ext cx="6778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chnologies that allow people with physical disabilities to perform or use common tasks o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ahoma"/>
              </a:rPr>
              <a:t>Adaptive / Assistive Technology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1" name="" descr="Image:Head-wand.jpg"/>
          <p:cNvPicPr/>
          <p:nvPr/>
        </p:nvPicPr>
        <p:blipFill>
          <a:blip r:embed="rId2"/>
          <a:stretch/>
        </p:blipFill>
        <p:spPr>
          <a:xfrm>
            <a:off x="4876920" y="3733920"/>
            <a:ext cx="3733560" cy="2800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057400" y="3123720"/>
            <a:ext cx="6778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mited vision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mplete impairment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2438280" y="11426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66"/>
                </a:solidFill>
                <a:latin typeface="Tahoma"/>
              </a:rPr>
              <a:t>Visual Disability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828880" cy="237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arge Screen monitors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xt readers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Limited / low vi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210360" y="3276720"/>
            <a:ext cx="2446200" cy="3276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828800" y="1143000"/>
            <a:ext cx="67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Zoom text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cial software that magnifies regular computer screen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Limited / low vi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3581280" cy="2462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828800" y="1143000"/>
            <a:ext cx="67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creen Readers – text to speech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cial software that reads screen text to u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b based 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ad Pleas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Complete Vision Los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895480" y="4191120"/>
            <a:ext cx="2438640" cy="225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828440" y="114300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ch-to-text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ch commands (computers, phon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Complete Vision Los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2-11T17:33:39Z</dcterms:modified>
  <cp:revision>30</cp:revision>
  <dc:subject/>
  <dc:title>Welcome to  ED3862</dc:title>
</cp:coreProperties>
</file>